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8444"/>
        <c:axId val="61246372"/>
      </c:barChart>
      <c:catAx>
        <c:axId val="2178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6372"/>
        <c:crosses val="autoZero"/>
        <c:auto val="1"/>
        <c:lblAlgn val="ctr"/>
        <c:lblOffset val="100"/>
        <c:noMultiLvlLbl val="0"/>
      </c:catAx>
      <c:valAx>
        <c:axId val="61246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8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9E7-F636-4AD3-BC2B-77C961D5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110-35AB-401E-AA29-DB1ECF99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C5A-B0F5-40C5-8960-87C28CEF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FA2-9E3F-4916-A92A-67FBF90B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770-E0C5-4FA2-A24C-97B92771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6BD-FB16-446F-967A-503D009D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3A8-979C-4E84-BE47-36A288DF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1F2-FC7F-4836-A43D-8635ACAB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CE9-2812-4405-AA55-192E5E13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8AE-CE8B-4A7B-A27F-2A786652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B2D-7143-4E3D-90BD-0A994CA2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346-0937-44A8-B885-9C7B4496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83B93-4E6E-471B-A971-515094BA2C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