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46541"/>
        <c:axId val="57624348"/>
      </c:barChart>
      <c:catAx>
        <c:axId val="56346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24348"/>
        <c:crosses val="autoZero"/>
        <c:auto val="1"/>
        <c:lblAlgn val="ctr"/>
        <c:lblOffset val="100"/>
        <c:noMultiLvlLbl val="0"/>
      </c:catAx>
      <c:valAx>
        <c:axId val="57624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46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123-5749-42DF-BAA6-D68528FE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D2F-89B4-44F4-8A96-1A982109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1B2-0F84-4C5A-984C-42ECFB3B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8AA-EF6B-4F6B-B304-9ABFB505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B8C-680B-45E9-9C65-49FFB7D7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5A2-4B16-42C3-875A-6031A27B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CCB5-B21E-4C81-AB02-FC8A6C5C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52F-2DFE-47AB-962E-90AA0AF4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A18-196B-4794-89DE-B4A8533A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56F4-B591-46A7-8989-61E38B80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A48-A7E0-44C1-B4B5-3BB12E16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5F7-DD89-4884-8867-400E4D4B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8D0A1-55D5-4DFA-8C2C-6D7E09A977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