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21037"/>
        <c:axId val="76596871"/>
      </c:barChart>
      <c:catAx>
        <c:axId val="97210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96871"/>
        <c:crosses val="autoZero"/>
        <c:auto val="1"/>
        <c:lblAlgn val="ctr"/>
        <c:lblOffset val="100"/>
        <c:noMultiLvlLbl val="0"/>
      </c:catAx>
      <c:valAx>
        <c:axId val="765968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10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2015-D145-48CD-82F8-BA780DC2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5629-C835-4191-8FD9-0A9C9C52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BEFA-6BDB-48C9-8158-4590B1BF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79FD-B06A-4625-BDBC-9D2EBF77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AD34-86E5-45FD-89DE-F8DDC14D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3E7A-DA2F-4CFB-A9EF-95394B39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A7D1-F9A8-48B6-8990-D66E7A0B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E605-0158-48AA-B4A9-752B91C7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AA5-13D7-43C2-99B8-96918A26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936A-1A17-437A-8451-FB1F891C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0A5E-AFC3-44DC-AC36-5D6F94EA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D49C-A987-4BAC-B091-08B56F70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DFFA5-05D5-40E4-BFFF-ACDED21027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