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06736"/>
        <c:axId val="79942056"/>
      </c:barChart>
      <c:catAx>
        <c:axId val="46706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42056"/>
        <c:crosses val="autoZero"/>
        <c:auto val="1"/>
        <c:lblAlgn val="ctr"/>
        <c:lblOffset val="100"/>
        <c:noMultiLvlLbl val="0"/>
      </c:catAx>
      <c:valAx>
        <c:axId val="79942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06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742-3B34-4862-B7B8-85FD014F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36B-65E2-4022-94DA-36FE0B9C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51D-F936-40F8-85A4-3B7A1E09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B52-EA2E-487C-A843-C6CC5399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E82-1282-4917-8C0A-4E27D493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1F5-7B25-4FA8-A062-2ADFC2EE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263-0872-4E3E-9816-02DABF13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758-8D6F-4703-86A3-8181DCA6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C1D-B26C-408F-84DA-C684EB3D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42A-ABAD-4DEB-8DA9-6EBA64B0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0A9-34C1-46AE-A0B2-B103A12B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6E8-0BAA-454E-AAA2-234AE159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ACBF2-96D3-4853-BDCD-7C35E36B89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