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11866"/>
        <c:axId val="45743278"/>
      </c:barChart>
      <c:catAx>
        <c:axId val="82011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43278"/>
        <c:crosses val="autoZero"/>
        <c:auto val="1"/>
        <c:lblAlgn val="ctr"/>
        <c:lblOffset val="100"/>
        <c:noMultiLvlLbl val="0"/>
      </c:catAx>
      <c:valAx>
        <c:axId val="45743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1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873-4C61-44E2-8FC3-DDAC932D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CDC-68DF-4B3D-9B1F-CA291247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B94-FE98-48A4-A66E-13D50878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EA0-0038-4816-9443-4DB3A896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DCE-0BF1-4FCC-B900-4D08BA4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5AC-741B-4512-B722-1F014790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2BA-E89E-4B51-BCC5-F71AE19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E63-B002-42B5-9EC5-BF9AB8A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103-4AD5-44F0-BA36-0AA019B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0BA-C0E6-4942-BCEE-4FDCD3E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2FA-82B9-4A9C-90B5-77DD3BC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8CF-FEBE-4D2F-AD69-A1E8A83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9CBF5-058F-42AF-BC67-232CCF9FC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