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68443"/>
        <c:axId val="61335846"/>
      </c:barChart>
      <c:catAx>
        <c:axId val="87768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35846"/>
        <c:crosses val="autoZero"/>
        <c:auto val="1"/>
        <c:lblAlgn val="ctr"/>
        <c:lblOffset val="100"/>
        <c:noMultiLvlLbl val="0"/>
      </c:catAx>
      <c:valAx>
        <c:axId val="61335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68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F12-CC08-4E2D-A9F4-18C1225F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86F-327E-4885-BBDE-8D8FAB3B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D4C-EA69-4B70-A100-E459F8E6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FB7-6F4F-4082-99CB-9C4073DC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C4C-956D-4B2B-AD90-CE2B1BEB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5E9-8B16-4A86-ABDB-C2C29A47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06B-0484-47FB-8CAC-0609B68A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A57-F66E-4D59-95EA-074CBD98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F5D-BDC7-4219-9083-7F1157B5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097-881A-4286-8440-443B0618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F66-F9F3-4363-87EF-4EC674C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7B8-D7AC-44F1-8848-CBAA6F0D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083B5-060B-4D4A-8557-E1203CFE81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