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44042"/>
        <c:axId val="34596480"/>
      </c:barChart>
      <c:catAx>
        <c:axId val="57344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96480"/>
        <c:crosses val="autoZero"/>
        <c:auto val="1"/>
        <c:lblAlgn val="ctr"/>
        <c:lblOffset val="100"/>
        <c:noMultiLvlLbl val="0"/>
      </c:catAx>
      <c:valAx>
        <c:axId val="345964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44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DE8-5ED2-4FAD-B0C3-1DD2EA41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81C-07F7-4D53-B4B8-81730079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6A75-62AA-44ED-8148-9D11C985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E3F-EDF5-479E-82D9-FCBE74C7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FB6-4D4C-4B77-AFA2-4B4C3B7C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5E0F-FF11-4929-804F-B2957921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FF2-B847-4229-8BAE-4B9364E9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6EA-1BD5-4019-A355-7033CD88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D3A-B7FF-4D6C-A4D6-A46CF8A6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B784-EAFB-43BF-9D46-3D89FF4E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802-FBE2-4468-A258-8CCEF33E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2AD-779B-4BFF-B579-52E044CE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5CF1C-7756-4167-95A2-D3D0E64B63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