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43002"/>
        <c:axId val="51533937"/>
      </c:barChart>
      <c:catAx>
        <c:axId val="83343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33937"/>
        <c:crosses val="autoZero"/>
        <c:auto val="1"/>
        <c:lblAlgn val="ctr"/>
        <c:lblOffset val="100"/>
        <c:noMultiLvlLbl val="0"/>
      </c:catAx>
      <c:valAx>
        <c:axId val="51533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43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005-8DD6-4B94-B99E-05084EC4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0F1-2AB6-48C2-8185-97380F57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D33-286B-454C-8EF3-09BC3890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161-AB9B-402A-B017-2C894728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E3E-D191-442B-A170-A7A6125B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50F-8A30-4A0C-87D4-CFD5BBC9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742-BAE1-46A4-9CD6-07D77CE7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EE3-7D48-4BC4-BE11-E252037F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A0A-7739-40A7-82A4-8BC03C79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F1F-6531-45A3-9CAA-07B01200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AAE-509D-464D-ADE3-38F2883C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0FB-4B39-4C62-8CEE-837ADB77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94211-A90A-44CC-B1C9-B6D1F65B1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