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396584"/>
        <c:axId val="75559583"/>
      </c:barChart>
      <c:catAx>
        <c:axId val="883965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559583"/>
        <c:crosses val="autoZero"/>
        <c:auto val="1"/>
        <c:lblAlgn val="ctr"/>
        <c:lblOffset val="100"/>
        <c:noMultiLvlLbl val="0"/>
      </c:catAx>
      <c:valAx>
        <c:axId val="755595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3965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AB6A-46EB-456C-A6BD-4AB1762FB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9940-A381-4525-9F7F-BA5AEDC5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8F67-4B99-4A76-9863-FD0D386B5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01E1-BD29-4E8B-B03D-DA466679B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56DA-D8E3-4722-B2F4-EF7896B9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F4EF-C5BE-4F6A-B5F9-77C92A7D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7AE9-D5C9-4DB4-8F58-20B14EAC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9A3B-9D79-42EB-B09B-C2CB1C4A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6077-B0CC-4F14-A9B8-A132CB25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C072-C426-4F76-A2E0-F5051A70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C25C-D837-40BE-ADF7-42E3DC98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3131-2B52-4626-ACAB-6615ED4B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E576B-3E4C-4FAA-BF3D-93ED31D85C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