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370228"/>
        <c:axId val="62896791"/>
      </c:barChart>
      <c:catAx>
        <c:axId val="803702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96791"/>
        <c:crosses val="autoZero"/>
        <c:auto val="1"/>
        <c:lblAlgn val="ctr"/>
        <c:lblOffset val="100"/>
        <c:noMultiLvlLbl val="0"/>
      </c:catAx>
      <c:valAx>
        <c:axId val="628967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3702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31C9-D311-4458-B98B-3FCCCF177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D99B-FB22-4078-B671-EF52332EC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DE3-BAF0-406E-A4AE-E0D63D0B6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801-D9A7-4428-842F-E883A988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D2C8-A0A2-41ED-B28C-42EFB2F0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1D5-BF53-41BD-AB7B-511DF857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32D-8A62-4791-8E82-5C253C77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BE7-A733-4E61-8CB2-CA4770C8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AEB4-664F-427D-81B5-C21D7DFD2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B88-C05A-4308-B7F4-B022DAA6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1E17-A634-4591-A2E8-EED74968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8303-2B78-4490-86D1-48D9A406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70E24-3992-48CC-8EA3-5A5D507558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