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45477"/>
        <c:axId val="97281483"/>
      </c:barChart>
      <c:catAx>
        <c:axId val="766454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81483"/>
        <c:crosses val="autoZero"/>
        <c:auto val="1"/>
        <c:lblAlgn val="ctr"/>
        <c:lblOffset val="100"/>
        <c:noMultiLvlLbl val="0"/>
      </c:catAx>
      <c:valAx>
        <c:axId val="97281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454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C73-F6E8-4B43-94EE-241BD866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4AF-5B3F-4876-AB85-45EB55A4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182-46DC-4CF7-A6B8-2F2AAFF2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6F7-F4D7-485D-9994-FBC5B655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3A2-7F13-4EDF-AB7C-7AD243A6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049-ACF9-4192-B518-98FC907B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595-A6C8-4C55-9C5E-D6170226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1FF-CD0F-4323-B8FB-1BD96E26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76D-00DC-429E-8BC5-67B37880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F85-D756-4432-A8DE-242B5451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D1A-AF45-4884-BB54-990F9610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DC2-D3AF-44B8-95C0-6BCD16E8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A30DC-E35F-41C9-BC53-2F768AA120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