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53923"/>
        <c:axId val="84282931"/>
      </c:barChart>
      <c:catAx>
        <c:axId val="34153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82931"/>
        <c:crosses val="autoZero"/>
        <c:auto val="1"/>
        <c:lblAlgn val="ctr"/>
        <c:lblOffset val="100"/>
        <c:noMultiLvlLbl val="0"/>
      </c:catAx>
      <c:valAx>
        <c:axId val="84282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53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EA7-D15B-47A9-98E6-8086BB48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3B5-BDB0-4D88-8BF9-5F3D73D4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970-293B-4C40-8094-EAEED3FA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3C1-4BF6-4BA5-9C17-4E9F59C2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620-7698-4538-BD33-5989EE9D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F11-F02A-4F5B-BC85-869BB560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792-68FF-40CD-8B22-68745974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22D-608A-4F18-8606-CA36277F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481-1F6F-4D78-8761-C10B2248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FD4-8B60-4243-8489-1D49D8D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02E-CE75-427F-AFC7-16491F2B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0EB-9B98-49CA-94E5-F0779CD4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13DAD-2BDB-4BEA-8D89-23CEECCAC2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