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85927"/>
        <c:axId val="62281491"/>
      </c:barChart>
      <c:catAx>
        <c:axId val="38285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81491"/>
        <c:crosses val="autoZero"/>
        <c:auto val="1"/>
        <c:lblAlgn val="ctr"/>
        <c:lblOffset val="100"/>
        <c:noMultiLvlLbl val="0"/>
      </c:catAx>
      <c:valAx>
        <c:axId val="62281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85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FBD-A741-4180-AED4-6C2E7986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CBF-E660-4CEF-8449-17C84F90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2E1-4AFA-4A10-863D-21FD1457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3F9-C70D-47BB-B99B-51AACC0A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439-05CE-4250-B910-B774EA07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85B-DDC4-4E1B-A2A1-47130534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CD9-CF1E-4224-A9C7-2AA527BB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927-929F-4235-BE83-8AAE3A0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AA3-BE9A-4434-9B24-A804AC82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E13-C805-4801-B996-933553B9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716-147D-4287-8E83-8FE0F2FC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718-65DB-4253-88B9-6E457CC6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2FB82-B867-4BAE-A328-8305B286E9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