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46752"/>
        <c:axId val="25214929"/>
      </c:barChart>
      <c:catAx>
        <c:axId val="49746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4929"/>
        <c:crosses val="autoZero"/>
        <c:auto val="1"/>
        <c:lblAlgn val="ctr"/>
        <c:lblOffset val="100"/>
        <c:noMultiLvlLbl val="0"/>
      </c:catAx>
      <c:valAx>
        <c:axId val="25214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6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991-6B98-4FED-A9FB-78F2E709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2CD-44EC-4B77-8FC2-F0AD0ADA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059-DB11-463B-9B87-E9B85287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2C3-A05B-435D-8C62-4FD8B9DB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81A-ADF9-42C7-94F9-5057F434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1BC-C1EE-44EF-B3BD-262F1381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2AB-5838-49C4-8C9B-02A7FAA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161-9486-4510-90D2-815CCA8C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D90-967A-4F56-BCB6-12129602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A01-B638-4B59-B871-DAF2C3A6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D9C-A662-4884-B7AD-B82DA294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DE6-A949-4556-9FE8-4EBBF94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301D0-AF9F-431A-8787-7B61C130E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