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09084"/>
        <c:axId val="38042283"/>
      </c:barChart>
      <c:catAx>
        <c:axId val="37909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42283"/>
        <c:crosses val="autoZero"/>
        <c:auto val="1"/>
        <c:lblAlgn val="ctr"/>
        <c:lblOffset val="100"/>
        <c:noMultiLvlLbl val="0"/>
      </c:catAx>
      <c:valAx>
        <c:axId val="38042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09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89D-D1AB-45BE-BDE0-941A0DE7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9F0-DFD9-4377-985C-E10F1B9B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DFB-509A-4588-80CB-8AC9706E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1B8-CAF3-480C-9A1F-955C781F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A78-CD58-46C4-87F6-1CB21621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946-EDF3-401E-9F35-907F68E6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25B-6223-457F-9FDF-3D916FA1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5F9-8646-4AB4-B9C1-077F5DD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E93-CC75-4665-81A6-8A094B18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A7A-E056-46A9-B945-51686DE5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01A-3218-43F0-A330-3683653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DAE-12D7-46A3-BCC2-CA2F52B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2D609-1F9D-4703-B3EA-AEEB15C13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