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86518"/>
        <c:axId val="95203957"/>
      </c:barChart>
      <c:catAx>
        <c:axId val="37086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3957"/>
        <c:crosses val="autoZero"/>
        <c:auto val="1"/>
        <c:lblAlgn val="ctr"/>
        <c:lblOffset val="100"/>
        <c:noMultiLvlLbl val="0"/>
      </c:catAx>
      <c:valAx>
        <c:axId val="95203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86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29E-5BC1-4D84-BDA1-0DCAA698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467-8287-4718-B1AE-6484D8C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245-449F-4392-BA61-95E1B264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4FD-E26B-490E-8476-1DD0253C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AD8-9DD4-448D-8671-25A0956F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89C-1F88-47BF-83BA-6C1712E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064-1923-4582-9B28-AA6C5DD6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79B-1CBD-4CD9-8F7A-1A6A8A1D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B9B-B1B4-41B5-B532-6AA71FE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22D-508F-4B8D-9D4A-C243E39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BFE-FEF9-42A5-93D8-5CA99D7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01C-D686-4C90-82F7-516E39B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FD8E6-A075-41BB-AFB5-FAB5EA7255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